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3.pct" ContentType="image/x-pict"/>
  <Override PartName="/ppt/media/image4.jpeg" ContentType="image/jpeg"/>
  <Override PartName="/ppt/media/image17.pct" ContentType="image/x-pict"/>
  <Override PartName="/ppt/media/image15.pct" ContentType="image/x-pict"/>
  <Override PartName="/ppt/media/image14.pct" ContentType="image/x-pict"/>
  <Override PartName="/ppt/media/image9.pct" ContentType="image/x-pict"/>
  <Override PartName="/ppt/media/image1.jpeg" ContentType="image/jpeg"/>
  <Override PartName="/ppt/media/image2.pct" ContentType="image/x-pict"/>
  <Override PartName="/ppt/media/image3.jpeg" ContentType="image/jpeg"/>
  <Override PartName="/ppt/media/image5.jpeg" ContentType="image/jpeg"/>
  <Override PartName="/ppt/media/image16.pct" ContentType="image/x-pict"/>
  <Override PartName="/ppt/media/image10.jpeg" ContentType="image/jpeg"/>
  <Override PartName="/ppt/media/image12.pct" ContentType="image/x-pict"/>
  <Override PartName="/ppt/media/image7.jpeg" ContentType="image/jpeg"/>
  <Override PartName="/ppt/media/image8.pct" ContentType="image/x-pict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703-BCD7-4744-B57B-C92BF901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8B82-49FB-43C8-B72E-532BF654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3F4-1DD1-4590-A265-4314FC04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05A-BD46-4B09-A358-4F225C5E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23E-A1D0-4CB2-AF27-28CA07C1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138-86F9-4738-90EB-E39E98B4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8A0-9658-4330-BB89-B6564B00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BAB-FA74-4D05-A6AE-FA4B26BB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CEC-BD3D-4DB7-AB90-4F135318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071-A799-4E33-9F5B-24BC629C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30C-44D4-4281-95DB-B26A9157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224-2ABD-4565-9799-0DB99D48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CE2B-6BC6-4573-9956-C17F64C46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585720"/>
            <a:ext cx="4800600" cy="269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1190520"/>
            <a:ext cx="3429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Pride and Preju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BBC six-hour mini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Simon 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882153"/>
          <a:stretch/>
        </p:blipFill>
        <p:spPr>
          <a:xfrm>
            <a:off x="3581280" y="3627360"/>
            <a:ext cx="4800600" cy="269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4176720"/>
            <a:ext cx="3047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Pride and Preju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Joe 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114800" cy="3111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4191120" cy="3147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53352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Jane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52578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Jane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6561" r="0" b="0"/>
          <a:stretch/>
        </p:blipFill>
        <p:spPr>
          <a:xfrm>
            <a:off x="5257800" y="380880"/>
            <a:ext cx="3718080" cy="434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20662" t="0" r="0" b="0"/>
          <a:stretch/>
        </p:blipFill>
        <p:spPr>
          <a:xfrm>
            <a:off x="228600" y="425520"/>
            <a:ext cx="4952880" cy="429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50148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Elizabeth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07560" y="4938840"/>
            <a:ext cx="275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Elizabeth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800600" cy="355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89920" y="533520"/>
            <a:ext cx="231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05278" t="0" r="157917" b="0"/>
          <a:stretch/>
        </p:blipFill>
        <p:spPr>
          <a:xfrm>
            <a:off x="380880" y="3411360"/>
            <a:ext cx="4800600" cy="3446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3429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Bennet 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57800" y="3992400"/>
            <a:ext cx="36576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9360"/>
            <a:ext cx="5105520" cy="31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94480" y="838080"/>
            <a:ext cx="231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s.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4120" y="3916440"/>
            <a:ext cx="3657600" cy="286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91233" t="0" r="336164" b="0"/>
          <a:stretch/>
        </p:blipFill>
        <p:spPr>
          <a:xfrm>
            <a:off x="0" y="3200400"/>
            <a:ext cx="5181480" cy="3594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0080" y="3429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s. Bennet   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5410080"/>
            <a:ext cx="1778040" cy="1181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5029200" cy="325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61320" y="762120"/>
            <a:ext cx="231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Bing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41320" y="3886200"/>
            <a:ext cx="209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Bing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261830"/>
          <a:stretch/>
        </p:blipFill>
        <p:spPr>
          <a:xfrm>
            <a:off x="609480" y="0"/>
            <a:ext cx="3733920" cy="5105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3708360" cy="5079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19920" y="451152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41600" y="5410080"/>
            <a:ext cx="231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Dar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17440" y="5410080"/>
            <a:ext cx="209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Dar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2:45:37Z</dcterms:created>
  <dc:creator>admin CHRHS</dc:creator>
  <dc:description/>
  <dc:language>en-US</dc:language>
  <cp:lastModifiedBy>admin CHRHS</cp:lastModifiedBy>
  <dcterms:modified xsi:type="dcterms:W3CDTF">2009-11-19T15:48:19Z</dcterms:modified>
  <cp:revision>1</cp:revision>
  <dc:subject/>
  <dc:title>PowerPoint Presentation</dc:title>
</cp:coreProperties>
</file>